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748-B0BE-4392-91AF-214DBE2D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7B4-F369-4375-BA2B-0A24460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CF9-6B3E-4960-94DB-4FF06F4E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542-CB09-44C7-8277-BBA9AF30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1FC-B886-45DD-B6B4-6B1711B0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09B5-3CB1-4EDA-8841-617663AE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DF66-F998-4438-8082-A0AAE2C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AC65-6BFF-4545-AD3A-C4DDFFA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AC4-905A-4BE7-A667-6FE197C6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B9B0-9822-4EF2-9E58-C130E1D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46D-0EC4-4201-97FF-6FB86D17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E64-6468-4A9C-A565-80522F4C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478-3AC4-48C8-923E-00A1818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F2E-502F-46C2-9F20-11E21D6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0D8B-5D62-4F50-9236-5FC63A7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B25-D886-4316-8A73-CB3C91B3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D7CD-B8C5-4903-908E-C9910EF2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789B-78D6-473F-B514-AADD9FF9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A5C5-BABB-47DE-9012-F42C7DE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27DA-5C3E-467B-9D82-8FC20DB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6C15-0D34-410F-A7B7-73580906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738D-6E62-4CA6-A667-76435FD1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09B-FAF3-4BCE-A6FE-DFDEFB7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8B4C-9EE3-44C2-B206-1F8CD604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F9F0-03A8-4F7A-993F-DA5C804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285F-06E2-4AFA-AFA9-088AD4A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7BA2-D0D0-4E3D-ABED-97DEFB8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EEBF-F814-4FAE-BA1A-012BCBD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8CD4-7AAE-47FD-9F02-00542845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9BC4-955A-42A5-95B8-AEF70D31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5C5C-C891-4E4F-836F-B29D49AA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C1FD-D29B-40E7-BCF7-2A8A17B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ADF1-EFB5-4305-983B-E69F5F81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D79-AF5C-4DDD-A5D8-54DFE432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AFEA-0DEF-407B-9E8B-C3FAA04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1056-9062-4097-AD88-D00CF28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B07E-F57B-47AE-9D9F-44B1C1B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F41D-CEA1-4038-8C6C-80160AC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9E4B-FAEA-4455-8B91-FAF46295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9C4C-8A16-4893-8E73-2D5F0B8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09FE-2381-4C8B-B9DB-63DACCB1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D2D0-F245-47A4-AFC4-018275D4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F201-0EFB-4DC4-AE81-1BB9052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45A7-E3E3-4B43-9F30-3D3BEE28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0F3-4320-4103-8E02-D9BBD90B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F291-16BC-4359-A534-4DD4C38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6274-1357-4DCD-A4DF-6F172209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0CE0-AF4B-46ED-BD38-417E958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86C4-4C3B-4FA8-9FBE-365CDB1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45FC-297A-4286-9D5B-889AA4A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84E0-6044-4E86-8540-4237AC4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82C6-E222-45DD-9418-BB5A606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9C20-725E-45FF-9BB3-5D1D240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61AB-0CC4-4B15-AA49-FC0D46C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BC08-3D25-4CB7-B739-4EDAF979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E86-A08D-4E72-9CE6-84A5C6EA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C753-D0F6-4736-934F-7836ABAC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57E8-EDF5-4406-96B3-1D16B4BB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B573B-E7D1-46D6-8FB5-356F569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BBD5-D4DE-4A43-A3ED-09EDDB6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EE85-6909-4690-A763-4D69C1D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CA989-DBE5-4975-A55F-89E7EB50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282BC-99F5-4724-AFA5-6DA0791C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CD5F-08B9-4129-99C7-C3E9128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73AE-7749-4523-AB94-EBA6D58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6A84-12DA-4E2E-A722-A2F3A22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77D-7F8C-4CEB-9164-11118AA8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6DAC-7947-46E7-B160-A96EA32A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4C63-3537-4734-9EE7-E8A6E704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704C-26D3-417F-A4FE-407A54CF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7BD-40EB-43BD-AEEA-7538CD9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DE7-497D-45BA-A6EC-C773C26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64010-2AC0-49B1-BDEC-9F07D8674E3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8FF3A-A39F-472B-8BE4-18B34C495BD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6E01F-1B8B-468E-ABB7-D8C6E5111067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C35BA-FC97-4B7D-900A-711A581C242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23048-897A-4141-9F48-E13F06DAC0A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B6061-6DB7-4FBF-8F1F-6581D65907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5ED1D-B1B5-472A-8924-722775B8CB9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AD25-533A-4870-A16E-E2A4DE1218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6D68D-B51D-4123-A8FF-89EFD93FE30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13D5D-1A0B-4F55-9023-9441293070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17C69-64B7-46F4-8903-A9E4B3A73E7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DC0B5-338D-4A76-8495-DED694312D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dimckenzie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3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7778880" cy="2225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e McKenz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ug 8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genealogy illustrates change with inheritance over a small number of years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2"/>
          <a:srcRect l="0" t="-4450" r="0" b="-4450"/>
          <a:stretch/>
        </p:blipFill>
        <p:spPr>
          <a:xfrm>
            <a:off x="45720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648320" y="1417680"/>
            <a:ext cx="4038480" cy="4157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 a large number years, evolution produces tremendous diversity in forms of lif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 process of descent with modification, the common ancestor of life on Earth gave rise to the fantastic divers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documented in the fossil record and around us to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olution means that humans, oak trees, hummingbirds, and whales all have some common ances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190476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wer points with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o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n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ided Rea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 to make up and stay up-to-date with cl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ervs to communicate with colleagues but they are only two w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activities, games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quia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78880" cy="1146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490040" y="2362320"/>
            <a:ext cx="756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more powerful power points with interactive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reentoasters.com has allowed us to implement U tub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nkab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onnectedness with my students (commun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new techniques and unafraid to try new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other group pages through n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 students to new types of assignments “podcasts” “imovies”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I wanted to develop a Blackboard site but because on 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 put together my yahoo site with unlimited storag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buil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dimckenzie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2"/>
          <a:stretch/>
        </p:blipFill>
        <p:spPr>
          <a:xfrm>
            <a:off x="682560" y="603360"/>
            <a:ext cx="7778880" cy="1225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RUZER 1GB:st_screencast.mov"/>
          <p:cNvPicPr/>
          <p:nvPr/>
        </p:nvPicPr>
        <p:blipFill>
          <a:blip r:embed="rId3"/>
          <a:stretch/>
        </p:blipFill>
        <p:spPr>
          <a:xfrm>
            <a:off x="533520" y="1752480"/>
            <a:ext cx="80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evolution have to do with m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vidence is there for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history of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42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evolution - changes in gene frequency in a population from one generation to the nex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evolution - the descent of different species from a common ancestor ove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Tit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ution is not simply a matter of change over tim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ees lose their lea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2"/>
          <a:srcRect l="-1724" t="0" r="-1724" b="0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untain ranges rise and erod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724280" y="1417680"/>
            <a:ext cx="39020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8:28:48Z</dcterms:created>
  <dc:creator>College of Education</dc:creator>
  <dc:description/>
  <dc:language>en-US</dc:language>
  <cp:lastModifiedBy>College of Education</cp:lastModifiedBy>
  <dcterms:modified xsi:type="dcterms:W3CDTF">2009-08-08T18:57:33Z</dcterms:modified>
  <cp:revision>4</cp:revision>
  <dc:subject/>
  <dc:title>Evolution</dc:title>
</cp:coreProperties>
</file>